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57E6-7D3C-4DA8-BE46-0C4D730C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EAB-CFDC-4513-82F7-2747D4C9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DB1-4340-4476-A1FE-8B49E44D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1B4-7158-4116-890E-F7E2E52B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4C7-A972-4C1F-9531-DC3BD246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E0D-54D5-4A14-A7CE-2773C727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427-051F-4D23-8EC3-34005D64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4FE2-BFC1-47B0-A103-2D776688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6E3-EA8F-4F69-B68C-1CD03B1A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853-A71B-424A-A526-9D91B193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CAC-AAD8-467B-ABEF-9BD75DEB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7E4D-3113-4585-B300-17F658A0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1E24-8478-4D83-8BB0-6E1EB9E87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3515040" y="1219320"/>
            <a:ext cx="274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erra L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83400" y="53352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ake Gr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www.worldatlas.com/webimage/countrys/africa/slnewzz.gif"/>
          <p:cNvPicPr/>
          <p:nvPr/>
        </p:nvPicPr>
        <p:blipFill>
          <a:blip r:embed="rId1"/>
          <a:stretch/>
        </p:blipFill>
        <p:spPr>
          <a:xfrm>
            <a:off x="0" y="3524400"/>
            <a:ext cx="30481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dreamstime.com/sierra-leone-flag-thumb44153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t2.gstatic.com/images?q=tbn:ANd9GcSVk8T41Td4Xc1urOjq-hZvasSVj2evyhEpdIVWx8YPseMMSIz30h5iNAsL"/>
          <p:cNvPicPr/>
          <p:nvPr/>
        </p:nvPicPr>
        <p:blipFill>
          <a:blip r:embed="rId2"/>
          <a:stretch/>
        </p:blipFill>
        <p:spPr>
          <a:xfrm>
            <a:off x="5573880" y="0"/>
            <a:ext cx="3570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worldatlas.com/webimage/countrys/africa/slnewzz.gif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igooglemaps.com/gfx/maps/big/sl-map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4122720" y="190512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ul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www.peacegallery.org/images/africa/sierraleone/sierra01.jpg"/>
          <p:cNvPicPr/>
          <p:nvPr/>
        </p:nvPicPr>
        <p:blipFill>
          <a:blip r:embed="rId1"/>
          <a:stretch/>
        </p:blipFill>
        <p:spPr>
          <a:xfrm>
            <a:off x="0" y="2209680"/>
            <a:ext cx="3657600" cy="2705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905120" y="57913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having a celebration or caremo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portal.unesco.org/geography/en/files/2734/11303280861SierraLeone.jpg/SierraLeone.jpg"/>
          <p:cNvPicPr/>
          <p:nvPr/>
        </p:nvPicPr>
        <p:blipFill>
          <a:blip r:embed="rId2"/>
          <a:stretch/>
        </p:blipFill>
        <p:spPr>
          <a:xfrm>
            <a:off x="6095880" y="34290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7012800" y="62485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ncing at a par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3828240" y="190512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ry F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929520" y="990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 City - Free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074240" y="205740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of Government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1231920" y="4114800"/>
            <a:ext cx="18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Relig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1235160" y="563868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Resource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d ,diamonds  , iron 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5653080" y="121932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acy Rate – 48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4055760" y="1981080"/>
            <a:ext cx="34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237320" y="297180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in w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a low literacy 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i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svanikabala.files.wordpress.com/2011/07/effects-of-civil-war-in-sierra-leone1.jpg"/>
          <p:cNvPicPr/>
          <p:nvPr/>
        </p:nvPicPr>
        <p:blipFill>
          <a:blip r:embed="rId1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row.wikispaces.com/file/view/child-soldier-sierra-leone.jpg/125340235/child-soldier-sierra-leone.jpg"/>
          <p:cNvPicPr/>
          <p:nvPr/>
        </p:nvPicPr>
        <p:blipFill>
          <a:blip r:embed="rId2"/>
          <a:stretch/>
        </p:blipFill>
        <p:spPr>
          <a:xfrm>
            <a:off x="0" y="4210200"/>
            <a:ext cx="3524400" cy="2647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www.pri.org/thumbnail.php?file=Kamajoh_child_soldier__Sierra_Leone__367541868.jpg&amp;size=tpl4028_article_small"/>
          <p:cNvPicPr/>
          <p:nvPr/>
        </p:nvPicPr>
        <p:blipFill>
          <a:blip r:embed="rId3"/>
          <a:stretch/>
        </p:blipFill>
        <p:spPr>
          <a:xfrm>
            <a:off x="0" y="0"/>
            <a:ext cx="28576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20:28:54Z</dcterms:created>
  <dc:creator>BHISD</dc:creator>
  <dc:description/>
  <dc:language>en-US</dc:language>
  <cp:lastModifiedBy>BHISD</cp:lastModifiedBy>
  <dcterms:modified xsi:type="dcterms:W3CDTF">2012-03-07T21:36:52Z</dcterms:modified>
  <cp:revision>2</cp:revision>
  <dc:subject/>
  <dc:title>Slide 1</dc:title>
</cp:coreProperties>
</file>